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E88-1883-4178-82AE-395DDF2E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024-C231-45FA-8869-3520159A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096-D6E9-4785-83BE-FDED57E7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53F-D04A-4133-90F3-F0585BA5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00BB-CDA7-442E-9B10-56A7D6ED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BE52-282D-4654-B262-EAFDCC29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2EFB-D84E-44A5-B9A5-87BD99AF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3499-D07C-4471-92EB-AA466955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CA40-C639-4D45-9E65-81B935F5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3D51-CB94-4A25-938A-B18B09A8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F4A0-8370-4FEA-9B00-8789C8E4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7798-BF09-4BAA-9197-2F5A8E4B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86E2-4B1E-4F77-8DA2-EE45A0A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B791-77CD-4595-8593-D8BCD11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F18B-AE4B-493C-A9E9-585DA7F4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2F08-0FAA-43DE-B42C-151B6701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6221-1C3E-41D4-9A63-C68E90FD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82B-4C59-4923-9EB5-BD196F6B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365-5B73-41C1-A831-995B3175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488-7550-4501-87D4-28E65B16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A9E-1AB5-4C35-BBFB-3E967631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5EC-57DE-469C-8A62-5B881E10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473-8070-4854-A0D9-50AFFFD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1FC-BE8F-4B8F-B4F8-4B65221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86CE-6F4B-49ED-B5DB-3C0A973F2A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CD5F-3C10-4796-97AB-F347EE932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imsweb.com/login.php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1873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sponse to Intervention (RTI)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IST Proces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ola Middle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2286000" cy="1571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 rot="20472600">
            <a:off x="4800600" y="5257800"/>
            <a:ext cx="3933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007-08 Updat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Student Benchmark Repo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19532" t="17709" r="14844" b="20835"/>
          <a:stretch/>
        </p:blipFill>
        <p:spPr>
          <a:xfrm>
            <a:off x="609480" y="1295280"/>
            <a:ext cx="7772400" cy="5191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276720" y="2743200"/>
            <a:ext cx="1676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05120" y="3657600"/>
            <a:ext cx="99036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ding Improvement Report for 2007-2008 School Yea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9640" y="2050920"/>
            <a:ext cx="7648560" cy="4394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581280" y="2209680"/>
            <a:ext cx="19051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403848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5334120"/>
            <a:ext cx="25146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enchmark Scores for 2007-2008 School Yea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46120" y="1755720"/>
            <a:ext cx="7912080" cy="46483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200400" y="1930320"/>
            <a:ext cx="220968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aimsweb.com/login.ph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rcRect l="17188" t="13540" r="19532" b="72732"/>
          <a:stretch/>
        </p:blipFill>
        <p:spPr>
          <a:xfrm>
            <a:off x="38160" y="990720"/>
            <a:ext cx="9067680" cy="1600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rcRect l="27343" t="27086" r="58596" b="33337"/>
          <a:stretch/>
        </p:blipFill>
        <p:spPr>
          <a:xfrm>
            <a:off x="1523880" y="2590920"/>
            <a:ext cx="1949400" cy="4114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447920" y="2057400"/>
            <a:ext cx="10666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week Re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w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Wh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hree Tier RTI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4648320" y="2114640"/>
            <a:ext cx="4038480" cy="3497040"/>
            <a:chOff x="4648320" y="2114640"/>
            <a:chExt cx="4038480" cy="3497040"/>
          </a:xfrm>
        </p:grpSpPr>
        <p:sp>
          <p:nvSpPr>
            <p:cNvPr id="220" name="_s4112"/>
            <p:cNvSpPr/>
            <p:nvPr/>
          </p:nvSpPr>
          <p:spPr>
            <a:xfrm flipV="1">
              <a:off x="5994360" y="2114640"/>
              <a:ext cx="1346400" cy="116496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ier I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4113"/>
            <p:cNvSpPr/>
            <p:nvPr/>
          </p:nvSpPr>
          <p:spPr>
            <a:xfrm flipV="1">
              <a:off x="5321520" y="3279600"/>
              <a:ext cx="2692080" cy="116712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680 h 1167120"/>
                <a:gd name="textAreaBottom" fmla="*/ 910440 h 116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4114"/>
            <p:cNvSpPr/>
            <p:nvPr/>
          </p:nvSpPr>
          <p:spPr>
            <a:xfrm flipV="1">
              <a:off x="4648320" y="4446720"/>
              <a:ext cx="4038480" cy="116496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676520" y="48006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in the general education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IS (Content Area Teach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23623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mall Group AIS (Reading / Special Ed. Teach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I can also be used to address the social / emotional needs of our children (e.g. BIP; Group Counseling; Individual Counsel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Structur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ELA --- with a Reading Teacher as a co-teacher (providing small group instru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Period Math --- Differentiated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the academic needs of stud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static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self-awareness of the students (e.g. skill breakdown on Assessments; DI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mpower the IST to make a differ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emotional needs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SWeb (Tracking Progra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 – Benchmarking 3x/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I – Strategic Monitoring 2x/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 – Benchmarking 3x/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I – Strategic Monitoring 2x/mon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Summer and Fall Training Workshops"/>
          <p:cNvPicPr/>
          <p:nvPr/>
        </p:nvPicPr>
        <p:blipFill>
          <a:blip r:embed="rId1"/>
          <a:srcRect l="25345" t="0" r="6196" b="60451"/>
          <a:stretch/>
        </p:blipFill>
        <p:spPr>
          <a:xfrm>
            <a:off x="4952880" y="5562720"/>
            <a:ext cx="3962520" cy="10634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133720" y="30481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3048120"/>
            <a:ext cx="0" cy="761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-285840" y="57240"/>
            <a:ext cx="925848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14640" y="2946240"/>
            <a:ext cx="445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4660920"/>
            <a:ext cx="674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29040" y="5003640"/>
            <a:ext cx="26287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29040" y="3289320"/>
            <a:ext cx="2628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24400" y="10033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2217800">
            <a:off x="-17136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86360" y="523224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2775200">
            <a:off x="74268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72240" y="35179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3111800">
            <a:off x="1885320" y="774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19920" y="228600"/>
            <a:ext cx="2819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raphic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present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er C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 and Enter Data in AIMs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with AIS Teachers to discuss results and provide them with Passwords to AIMs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about the “Philosophy” of 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iculum        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5257800"/>
            <a:ext cx="762120" cy="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 rot="1614600">
            <a:off x="6248160" y="457200"/>
            <a:ext cx="1244520" cy="1209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80880" y="4038480"/>
            <a:ext cx="8254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486400" y="1039320"/>
            <a:ext cx="3200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AIMsWeb Data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 Tier II A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37595" t="33337" r="28126" b="10420"/>
          <a:stretch/>
        </p:blipFill>
        <p:spPr>
          <a:xfrm>
            <a:off x="152280" y="380880"/>
            <a:ext cx="5450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User</cp:lastModifiedBy>
  <dcterms:modified xsi:type="dcterms:W3CDTF">2008-02-26T18:14:03Z</dcterms:modified>
  <cp:revision>13</cp:revision>
  <dc:subject/>
  <dc:title>Response to Intervention (RTI) &amp; The IST Process</dc:title>
</cp:coreProperties>
</file>